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CBF-074E-4E54-88FB-928EC484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660-1E72-41DA-BD31-9C09D647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543-85DC-4AF2-9B8A-3C1D8CE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D49-F31D-47DF-8AD7-BC56EC83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1FC-325E-4E3A-B505-FE328857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9FC-7C4A-4868-BF34-304E1858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A0E-95E5-44F7-A6C4-DDBF8BAA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5CC-F471-475B-89A7-221978D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F22-506B-44EB-B84C-F62C1AA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FB6-7D0A-4D44-A10D-8BAD6A2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527-3C03-461A-8059-2DC24A3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73D-E3B7-4AC8-B5F4-2959692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6E2E-AD3E-461A-B05C-0BC938F5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Background%20Information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Say What???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Hannah Hendrick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1:Brunettes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2: Blond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#3: Redhead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My hypothesis was somewhat corr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Blondes were in fact smarter than redhead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Brunettes were smar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Conclusion x2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Interestingly gender had a larger eff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On the first test girl were 40% smarter than the boys.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On the second test girls were 41% smarter.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ossible Cause of Error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eople may have seen the IQ questions before.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eople might have overheard the survival 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Further Research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I want to test how gender effects everything I tested with this experiment.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cknowledgements 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Time Spent: 19 Hours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Thanks to….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Brayden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Caleb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Nick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Shelbi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Kylee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Kylah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rin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Holly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ydney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roblem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What effect does hair color have on intelligence 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Hypothesi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Hair color won’t have an effec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dheads will have lowest IQ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Background Information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aiandra GD"/>
                <a:hlinkClick r:id="rId1"/>
              </a:rPr>
              <a:t>Background Information: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Material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#1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#2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Test Subjec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rocedure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Mak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ive test #1 to all test subjec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rad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cord Resul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Find Percents &amp; Averag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ive test #2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Grade Tes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Record Result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Variable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Independent: Hair Color</a:t>
            </a:r>
            <a:endParaRPr b="0" lang="en-US" sz="28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Dependent: Test score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ontrolled : Same test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One person from each math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Maiandra GD"/>
              </a:rPr>
              <a:t>One boy 2 girls</a:t>
            </a:r>
            <a:endParaRPr b="0" lang="en-US" sz="32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Results x2</a:t>
            </a:r>
            <a:endParaRPr b="1" lang="en-US" sz="36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iandra GD"/>
              </a:rPr>
              <a:t>Test #1 Results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londes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7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runette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7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8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d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4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6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iandra GD"/>
              </a:rPr>
              <a:t>Test #2 Results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londes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33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33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runette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41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0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d: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irl Average: 16.5%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oy Average: 16% </a:t>
            </a: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6:29:10Z</dcterms:created>
  <dc:creator>USD376</dc:creator>
  <dc:description/>
  <dc:language>en-US</dc:language>
  <cp:lastModifiedBy>USD376</cp:lastModifiedBy>
  <dcterms:modified xsi:type="dcterms:W3CDTF">2012-03-08T17:22:33Z</dcterms:modified>
  <cp:revision>2</cp:revision>
  <dc:subject/>
  <dc:title>Say What???</dc:title>
</cp:coreProperties>
</file>